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881532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061720" y="5619600"/>
            <a:ext cx="881532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79000" y="50292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61720" y="56196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579000" y="56196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28382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160" y="5029200"/>
            <a:ext cx="28382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22960" y="5029200"/>
            <a:ext cx="28382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061720" y="5619600"/>
            <a:ext cx="28382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5042160" y="5619600"/>
            <a:ext cx="28382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22960" y="5619600"/>
            <a:ext cx="28382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061720" y="5029200"/>
            <a:ext cx="881532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881532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4301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579000" y="5029200"/>
            <a:ext cx="4301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093760" y="1638360"/>
            <a:ext cx="88156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579000" y="5029200"/>
            <a:ext cx="4301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061720" y="56196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061720" y="5029200"/>
            <a:ext cx="881532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4301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579000" y="50292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79000" y="56196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579000" y="50292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061720" y="5619600"/>
            <a:ext cx="881532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881532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061720" y="5619600"/>
            <a:ext cx="881532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579000" y="50292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61720" y="56196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579000" y="56196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28382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160" y="5029200"/>
            <a:ext cx="28382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022960" y="5029200"/>
            <a:ext cx="28382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061720" y="5619600"/>
            <a:ext cx="28382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5042160" y="5619600"/>
            <a:ext cx="28382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022960" y="5619600"/>
            <a:ext cx="28382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061720" y="5029200"/>
            <a:ext cx="881532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881532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4301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579000" y="5029200"/>
            <a:ext cx="4301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881532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093760" y="1638360"/>
            <a:ext cx="88156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579000" y="5029200"/>
            <a:ext cx="4301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061720" y="56196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4301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579000" y="50292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79000" y="56196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579000" y="50292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061720" y="5619600"/>
            <a:ext cx="881532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881532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061720" y="5619600"/>
            <a:ext cx="881532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579000" y="50292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061720" y="56196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579000" y="56196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28382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42160" y="5029200"/>
            <a:ext cx="28382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022960" y="5029200"/>
            <a:ext cx="28382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061720" y="5619600"/>
            <a:ext cx="28382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5042160" y="5619600"/>
            <a:ext cx="28382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022960" y="5619600"/>
            <a:ext cx="28382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061720" y="5029200"/>
            <a:ext cx="881532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881532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4301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579000" y="5029200"/>
            <a:ext cx="4301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4301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579000" y="5029200"/>
            <a:ext cx="4301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093760" y="1638360"/>
            <a:ext cx="88156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579000" y="5029200"/>
            <a:ext cx="4301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061720" y="56196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4301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579000" y="50292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79000" y="56196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579000" y="50292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061720" y="5619600"/>
            <a:ext cx="881532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881532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061720" y="5619600"/>
            <a:ext cx="881532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579000" y="50292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061720" y="56196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579000" y="56196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28382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42160" y="5029200"/>
            <a:ext cx="28382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22960" y="5029200"/>
            <a:ext cx="28382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061720" y="5619600"/>
            <a:ext cx="28382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5042160" y="5619600"/>
            <a:ext cx="28382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022960" y="5619600"/>
            <a:ext cx="28382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093760" y="1638360"/>
            <a:ext cx="88156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579000" y="5029200"/>
            <a:ext cx="4301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061720" y="56196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43016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579000" y="50292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79000" y="56196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579000" y="5029200"/>
            <a:ext cx="43016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061720" y="5619600"/>
            <a:ext cx="881532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25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32259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207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4158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6238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83196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831960">
              <a:spcBef>
                <a:spcPts val="9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831960">
              <a:spcBef>
                <a:spcPts val="9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207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4158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6238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83196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831960">
              <a:spcBef>
                <a:spcPts val="9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831960">
              <a:spcBef>
                <a:spcPts val="9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207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4158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6238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83196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831960">
              <a:spcBef>
                <a:spcPts val="9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831960">
              <a:spcBef>
                <a:spcPts val="9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061720" y="5029200"/>
            <a:ext cx="881532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636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730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1094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14616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14616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14616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6" name=""/>
          <p:cNvSpPr/>
          <p:nvPr/>
        </p:nvSpPr>
        <p:spPr>
          <a:xfrm>
            <a:off x="-177840" y="9671040"/>
            <a:ext cx="15333840" cy="666720"/>
          </a:xfrm>
          <a:prstGeom prst="pie">
            <a:avLst/>
          </a:prstGeom>
          <a:solidFill>
            <a:srgbClr val="c82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huff.com/" TargetMode="External"/><Relationship Id="rId2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cameronhuff.com/blog/security" TargetMode="External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0840" y="1638360"/>
            <a:ext cx="12336480" cy="33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100" spc="-1" strike="noStrike">
                <a:solidFill>
                  <a:srgbClr val="c82506"/>
                </a:solidFill>
                <a:latin typeface="Helvetica Neue Medium"/>
                <a:ea typeface="Helvetica Neue Medium"/>
              </a:rPr>
              <a:t>TAKING CYBERCRIME SERIOUSLY</a:t>
            </a:r>
            <a:endParaRPr b="0" lang="en-US" sz="71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61720" y="5028840"/>
            <a:ext cx="881532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How </a:t>
            </a:r>
            <a:r>
              <a:rPr b="1" lang="en-US" sz="4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Law Firms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Have Been Attacked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5" name=""/>
          <p:cNvSpPr/>
          <p:nvPr/>
        </p:nvSpPr>
        <p:spPr>
          <a:xfrm>
            <a:off x="193680" y="8724960"/>
            <a:ext cx="1261584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c82506"/>
                </a:solidFill>
                <a:latin typeface="Helvetica Light"/>
              </a:rPr>
              <a:t>Addison Cameron-Huff</a:t>
            </a:r>
            <a:r>
              <a:rPr b="0" lang="en-US" sz="3000" spc="-1" strike="noStrike">
                <a:solidFill>
                  <a:srgbClr val="000000"/>
                </a:solidFill>
                <a:latin typeface="Helvetica Light"/>
              </a:rPr>
              <a:t>, J.D.   |  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Light"/>
                <a:hlinkClick r:id="rId1"/>
              </a:rPr>
              <a:t>www.cameronhuff.com</a:t>
            </a:r>
            <a:r>
              <a:rPr b="0" lang="en-US" sz="3000" spc="-1" strike="noStrike">
                <a:solidFill>
                  <a:srgbClr val="000000"/>
                </a:solidFill>
                <a:latin typeface="Helvetica Light"/>
              </a:rPr>
              <a:t>   |   January, 2014</a:t>
            </a:r>
            <a:endParaRPr b="0" lang="en-US" sz="3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000" spc="-1" strike="noStrike">
                <a:solidFill>
                  <a:srgbClr val="c82506"/>
                </a:solidFill>
                <a:latin typeface="Helvetica Neue Medium"/>
                <a:ea typeface="Helvetica Neue Medium"/>
              </a:rPr>
              <a:t>WIRE TRANSFERS + ACH TRANSFERS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881532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rust Accounts = $$$, Payroll = $$$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25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7360" y="3225960"/>
            <a:ext cx="122284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Helvetica Neue Medium"/>
                <a:ea typeface="Helvetica Neue Medium"/>
              </a:rPr>
              <a:t>2013: US TITLE COMPANY LOSES $1.7M VIA ACH</a:t>
            </a:r>
            <a:endParaRPr b="0" lang="en-US" sz="7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000" spc="-1" strike="noStrike">
                <a:solidFill>
                  <a:srgbClr val="c82506"/>
                </a:solidFill>
                <a:latin typeface="Helvetica Neue Medium"/>
                <a:ea typeface="Helvetica Neue Medium"/>
              </a:rPr>
              <a:t>BITCOIN RANSOMWARE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061720" y="5028840"/>
            <a:ext cx="881532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ryptolocker: 2013’s Fun New Method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CryptoLocker_20131120_Bitcoin.png" descr=""/>
          <p:cNvPicPr/>
          <p:nvPr/>
        </p:nvPicPr>
        <p:blipFill>
          <a:blip r:embed="rId1"/>
          <a:srcRect l="0" t="1617" r="0" b="1617"/>
          <a:stretch/>
        </p:blipFill>
        <p:spPr>
          <a:xfrm>
            <a:off x="0" y="0"/>
            <a:ext cx="12998520" cy="97534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07800" y="9253440"/>
            <a:ext cx="1752840" cy="279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Light"/>
              </a:rPr>
              <a:t>Screenshot by F-Secure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25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6090622321_d536998036_o-filtered.jpeg" descr=""/>
          <p:cNvPicPr/>
          <p:nvPr/>
        </p:nvPicPr>
        <p:blipFill>
          <a:blip r:embed="rId1"/>
          <a:stretch/>
        </p:blipFill>
        <p:spPr>
          <a:xfrm>
            <a:off x="4680" y="-2232000"/>
            <a:ext cx="13735080" cy="171496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69720" y="3225960"/>
            <a:ext cx="10464840" cy="3301920"/>
          </a:xfrm>
          <a:prstGeom prst="rect">
            <a:avLst/>
          </a:prstGeom>
          <a:noFill/>
          <a:ln w="0">
            <a:noFill/>
          </a:ln>
          <a:effectLst>
            <a:outerShdw dist="8280" dir="54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Helvetica Neue Medium"/>
                <a:ea typeface="Helvetica Neue Medium"/>
              </a:rPr>
              <a:t>HOW?</a:t>
            </a:r>
            <a:endParaRPr b="0" lang="en-US" sz="20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5" name=""/>
          <p:cNvSpPr/>
          <p:nvPr/>
        </p:nvSpPr>
        <p:spPr>
          <a:xfrm>
            <a:off x="10901520" y="9447120"/>
            <a:ext cx="2071440" cy="279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Light"/>
              </a:rPr>
              <a:t>Photo by Leigh Ann on Flickr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25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95160" y="32259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elvetica Neue Medium"/>
                <a:ea typeface="Helvetica Neue Medium"/>
              </a:rPr>
              <a:t>WEBSITE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Helvetica Neue Medium"/>
                <a:ea typeface="Helvetica Neue Medium"/>
              </a:rPr>
              <a:t>EXPLOITS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7" name=""/>
          <p:cNvSpPr/>
          <p:nvPr/>
        </p:nvSpPr>
        <p:spPr>
          <a:xfrm>
            <a:off x="-820800" y="-374760"/>
            <a:ext cx="7388280" cy="10503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8" name=""/>
          <p:cNvSpPr/>
          <p:nvPr/>
        </p:nvSpPr>
        <p:spPr>
          <a:xfrm>
            <a:off x="879480" y="3225960"/>
            <a:ext cx="10464840" cy="330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000" spc="-1" strike="noStrike">
                <a:solidFill>
                  <a:srgbClr val="c82506"/>
                </a:solidFill>
                <a:latin typeface="Helvetica Neue Medium"/>
                <a:ea typeface="Helvetica Neue Medium"/>
              </a:rPr>
              <a:t>SPEAR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000" spc="-1" strike="noStrike">
                <a:solidFill>
                  <a:srgbClr val="c82506"/>
                </a:solidFill>
                <a:latin typeface="Helvetica Neue Medium"/>
                <a:ea typeface="Helvetica Neue Medium"/>
              </a:rPr>
              <a:t>PHISHING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000" spc="-1" strike="noStrike">
                <a:solidFill>
                  <a:srgbClr val="c82506"/>
                </a:solidFill>
                <a:latin typeface="Helvetica Neue Medium"/>
                <a:ea typeface="Helvetica Neue Medium"/>
              </a:rPr>
              <a:t>SPEAR PHISHING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061720" y="5028840"/>
            <a:ext cx="881532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1) Email 2) Malware 3) Record keyboard</a:t>
            </a:r>
            <a:endParaRPr b="0" lang="en-US" sz="37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25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98560" y="3225600"/>
            <a:ext cx="11206080" cy="33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Helvetica Neue Medium"/>
                <a:ea typeface="Helvetica Neue Medium"/>
              </a:rPr>
              <a:t>LAW FIRM BOOKKEEPER HACKED</a:t>
            </a:r>
            <a:endParaRPr b="0" lang="en-US" sz="7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25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70080" y="3225600"/>
            <a:ext cx="10463040" cy="33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elvetica Neue Medium"/>
                <a:ea typeface="Helvetica Neue Medium"/>
              </a:rPr>
              <a:t>FAKE BANK SITE + 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Helvetica Neue Medium"/>
                <a:ea typeface="Helvetica Neue Medium"/>
              </a:rPr>
              <a:t>FAKE PHONE CALLS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000" spc="-1" strike="noStrike">
                <a:solidFill>
                  <a:srgbClr val="c82506"/>
                </a:solidFill>
                <a:latin typeface="Helvetica Neue Medium"/>
                <a:ea typeface="Helvetica Neue Medium"/>
              </a:rPr>
              <a:t>WEBSITE EXPLOITS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061720" y="5028840"/>
            <a:ext cx="881532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1) Attack public site 2) Gain internal access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3221043424_b3c5d50bf6_b.jpg" descr=""/>
          <p:cNvPicPr/>
          <p:nvPr/>
        </p:nvPicPr>
        <p:blipFill>
          <a:blip r:embed="rId1"/>
          <a:srcRect l="5550" t="0" r="5550" b="0"/>
          <a:stretch/>
        </p:blipFill>
        <p:spPr>
          <a:xfrm>
            <a:off x="1440" y="0"/>
            <a:ext cx="13000320" cy="9753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362640" y="1393920"/>
            <a:ext cx="6181920" cy="6964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228600" algn="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LAW FIRMS ARE JUICY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lvl="1" marL="228600" algn="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TARGETS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8" name=""/>
          <p:cNvSpPr/>
          <p:nvPr/>
        </p:nvSpPr>
        <p:spPr>
          <a:xfrm>
            <a:off x="127080" y="9328320"/>
            <a:ext cx="2054160" cy="279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Light"/>
              </a:rPr>
              <a:t>Photo by Sam_Catch (Flickr)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25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03160" y="3225960"/>
            <a:ext cx="113968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Helvetica Neue Medium"/>
                <a:ea typeface="Helvetica Neue Medium"/>
              </a:rPr>
              <a:t>TARGET: 110 MILLION CUSTOMERS AFFECTED</a:t>
            </a:r>
            <a:endParaRPr b="0" lang="en-US" sz="7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2923629922_428e3962e7_o.jpg" descr=""/>
          <p:cNvPicPr/>
          <p:nvPr/>
        </p:nvPicPr>
        <p:blipFill>
          <a:blip r:embed="rId1"/>
          <a:stretch/>
        </p:blipFill>
        <p:spPr>
          <a:xfrm>
            <a:off x="-109440" y="-23760"/>
            <a:ext cx="14665320" cy="9810720"/>
          </a:xfrm>
          <a:prstGeom prst="rect">
            <a:avLst/>
          </a:prstGeom>
          <a:ln w="0">
            <a:noFill/>
          </a:ln>
        </p:spPr>
      </p:pic>
      <p:pic>
        <p:nvPicPr>
          <p:cNvPr id="197" name="Screen Shot 2014-01-20 at 4.17.15 PM.png" descr=""/>
          <p:cNvPicPr/>
          <p:nvPr/>
        </p:nvPicPr>
        <p:blipFill>
          <a:blip r:embed="rId2"/>
          <a:srcRect l="3960" t="3438" r="72472" b="59833"/>
          <a:stretch/>
        </p:blipFill>
        <p:spPr>
          <a:xfrm>
            <a:off x="5537160" y="3412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537160" y="2732040"/>
            <a:ext cx="1905120" cy="1905120"/>
          </a:xfrm>
          <a:prstGeom prst="pie">
            <a:avLst/>
          </a:prstGeom>
          <a:solidFill>
            <a:srgbClr val="c82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elvetica Neue Medium"/>
                <a:ea typeface="Helvetica Neue Medium"/>
              </a:rPr>
              <a:t>Internal Server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9" name=""/>
          <p:cNvSpPr/>
          <p:nvPr/>
        </p:nvSpPr>
        <p:spPr>
          <a:xfrm>
            <a:off x="5537160" y="5124600"/>
            <a:ext cx="1905120" cy="1904760"/>
          </a:xfrm>
          <a:prstGeom prst="pie">
            <a:avLst/>
          </a:prstGeom>
          <a:solidFill>
            <a:srgbClr val="c82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elvetica Neue Medium"/>
                <a:ea typeface="Helvetica Neue Medium"/>
              </a:rPr>
              <a:t>Point of Sale Terminals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0" name=""/>
          <p:cNvSpPr/>
          <p:nvPr/>
        </p:nvSpPr>
        <p:spPr>
          <a:xfrm>
            <a:off x="5537160" y="7516800"/>
            <a:ext cx="1905120" cy="1905120"/>
          </a:xfrm>
          <a:prstGeom prst="pie">
            <a:avLst/>
          </a:prstGeom>
          <a:solidFill>
            <a:srgbClr val="c82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elvetica Neue Medium"/>
                <a:ea typeface="Helvetica Neue Medium"/>
              </a:rPr>
              <a:t>Thief Server(s)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1" name=""/>
          <p:cNvSpPr/>
          <p:nvPr/>
        </p:nvSpPr>
        <p:spPr>
          <a:xfrm>
            <a:off x="7699320" y="690480"/>
            <a:ext cx="4830840" cy="1204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1) Thieves break into public websit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2" name=""/>
          <p:cNvSpPr/>
          <p:nvPr/>
        </p:nvSpPr>
        <p:spPr>
          <a:xfrm>
            <a:off x="7686720" y="3081240"/>
            <a:ext cx="5025960" cy="120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2) Find important internal server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3" name=""/>
          <p:cNvSpPr/>
          <p:nvPr/>
        </p:nvSpPr>
        <p:spPr>
          <a:xfrm>
            <a:off x="7601040" y="5473800"/>
            <a:ext cx="5025960" cy="1206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3) Deploy exploit on POS device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4" name=""/>
          <p:cNvSpPr/>
          <p:nvPr/>
        </p:nvSpPr>
        <p:spPr>
          <a:xfrm>
            <a:off x="7686720" y="7866000"/>
            <a:ext cx="5025960" cy="1204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4) Steal 110 million credit cards &amp; PII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6257880" y="2254320"/>
            <a:ext cx="487440" cy="487440"/>
          </a:xfrm>
          <a:prstGeom prst="rightArrow">
            <a:avLst>
              <a:gd name="adj1" fmla="val 43148"/>
              <a:gd name="adj2" fmla="val 52657"/>
            </a:avLst>
          </a:prstGeom>
          <a:solidFill>
            <a:srgbClr val="c82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257880" y="4637160"/>
            <a:ext cx="487440" cy="487440"/>
          </a:xfrm>
          <a:prstGeom prst="rightArrow">
            <a:avLst>
              <a:gd name="adj1" fmla="val 43148"/>
              <a:gd name="adj2" fmla="val 52657"/>
            </a:avLst>
          </a:prstGeom>
          <a:solidFill>
            <a:srgbClr val="c82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6257880" y="7020000"/>
            <a:ext cx="487440" cy="487440"/>
          </a:xfrm>
          <a:prstGeom prst="rightArrow">
            <a:avLst>
              <a:gd name="adj1" fmla="val 43148"/>
              <a:gd name="adj2" fmla="val 52657"/>
            </a:avLst>
          </a:prstGeom>
          <a:solidFill>
            <a:srgbClr val="c82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8" name=""/>
          <p:cNvSpPr/>
          <p:nvPr/>
        </p:nvSpPr>
        <p:spPr>
          <a:xfrm>
            <a:off x="10272600" y="9372600"/>
            <a:ext cx="2589480" cy="279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Light"/>
              </a:rPr>
              <a:t>Photo by @Roadsidepictures (Flickr)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25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73040" y="-731880"/>
            <a:ext cx="12057120" cy="12055680"/>
          </a:xfrm>
          <a:prstGeom prst="pie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03160" y="3225960"/>
            <a:ext cx="113968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Helvetica Neue Medium"/>
                <a:ea typeface="Helvetica Neue Medium"/>
              </a:rPr>
              <a:t>70 CLASS ACTIONS FILED SO FAR</a:t>
            </a:r>
            <a:endParaRPr b="0" lang="en-US" sz="7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02320" y="-243000"/>
            <a:ext cx="0" cy="3019680"/>
          </a:xfrm>
          <a:prstGeom prst="line">
            <a:avLst/>
          </a:prstGeom>
          <a:ln w="63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502320" y="7149960"/>
            <a:ext cx="0" cy="3021120"/>
          </a:xfrm>
          <a:prstGeom prst="line">
            <a:avLst/>
          </a:prstGeom>
          <a:ln w="63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3" name=""/>
          <p:cNvSpPr/>
          <p:nvPr/>
        </p:nvSpPr>
        <p:spPr>
          <a:xfrm>
            <a:off x="504720" y="4876920"/>
            <a:ext cx="1201680" cy="0"/>
          </a:xfrm>
          <a:prstGeom prst="line">
            <a:avLst/>
          </a:prstGeom>
          <a:ln w="63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4" name=""/>
          <p:cNvSpPr/>
          <p:nvPr/>
        </p:nvSpPr>
        <p:spPr>
          <a:xfrm>
            <a:off x="11550600" y="4876920"/>
            <a:ext cx="982800" cy="0"/>
          </a:xfrm>
          <a:prstGeom prst="line">
            <a:avLst/>
          </a:prstGeom>
          <a:ln w="63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000" spc="-1" strike="noStrike">
                <a:solidFill>
                  <a:srgbClr val="c82506"/>
                </a:solidFill>
                <a:latin typeface="Helvetica Neue Medium"/>
                <a:ea typeface="Helvetica Neue Medium"/>
              </a:rPr>
              <a:t>STOP KIDDING YOURSELF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881532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You don’t have better security than Target</a:t>
            </a:r>
            <a:endParaRPr b="0" lang="en-US" sz="35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000" spc="-1" strike="noStrike">
                <a:solidFill>
                  <a:srgbClr val="c82506"/>
                </a:solidFill>
                <a:latin typeface="Helvetica Neue Medium"/>
                <a:ea typeface="Helvetica Neue Medium"/>
              </a:rPr>
              <a:t>PLAINTEXT PASSWORDS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881532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You’re as secure as the sites you use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4338571577_96aeb93461_b.jpg" descr=""/>
          <p:cNvPicPr/>
          <p:nvPr/>
        </p:nvPicPr>
        <p:blipFill>
          <a:blip r:embed="rId1"/>
          <a:srcRect l="19" t="0" r="19" b="0"/>
          <a:stretch/>
        </p:blipFill>
        <p:spPr>
          <a:xfrm>
            <a:off x="0" y="0"/>
            <a:ext cx="12998520" cy="9753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270080" y="3225960"/>
            <a:ext cx="10464840" cy="3301920"/>
          </a:xfrm>
          <a:prstGeom prst="pie">
            <a:avLst/>
          </a:prstGeom>
          <a:noFill/>
          <a:ln w="0">
            <a:noFill/>
          </a:ln>
          <a:effectLst>
            <a:outerShdw dist="828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US" sz="12400" spc="-1" strike="noStrike">
                <a:solidFill>
                  <a:srgbClr val="ffffff"/>
                </a:solidFill>
                <a:latin typeface="Helvetica Neue Medium"/>
                <a:ea typeface="Helvetica Neue Medium"/>
              </a:rPr>
              <a:t>NOW WHAT?</a:t>
            </a:r>
            <a:endParaRPr b="0" lang="en-US" sz="12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0840" y="1638360"/>
            <a:ext cx="12336480" cy="33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100" spc="-1" strike="noStrike">
                <a:solidFill>
                  <a:srgbClr val="c82506"/>
                </a:solidFill>
                <a:latin typeface="Helvetica Neue Medium"/>
                <a:ea typeface="Helvetica Neue Medium"/>
              </a:rPr>
              <a:t>LEARN MORE</a:t>
            </a:r>
            <a:endParaRPr b="0" lang="en-US" sz="71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061720" y="5028840"/>
            <a:ext cx="881532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34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http://www.cameronhuff.com/blog/security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3" name=""/>
          <p:cNvSpPr/>
          <p:nvPr/>
        </p:nvSpPr>
        <p:spPr>
          <a:xfrm>
            <a:off x="193680" y="8724960"/>
            <a:ext cx="1261584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c82506"/>
                </a:solidFill>
                <a:latin typeface="Helvetica Light"/>
              </a:rPr>
              <a:t>Addison Cameron-Huff</a:t>
            </a:r>
            <a:r>
              <a:rPr b="0" lang="en-US" sz="3000" spc="-1" strike="noStrike">
                <a:solidFill>
                  <a:srgbClr val="000000"/>
                </a:solidFill>
                <a:latin typeface="Helvetica Light"/>
              </a:rPr>
              <a:t>, J.D.   | 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Helvetica Light"/>
              </a:rPr>
              <a:t>www.cameronhuff.com</a:t>
            </a:r>
            <a:r>
              <a:rPr b="0" lang="en-US" sz="3000" spc="-1" strike="noStrike">
                <a:solidFill>
                  <a:srgbClr val="000000"/>
                </a:solidFill>
                <a:latin typeface="Helvetica Light"/>
              </a:rPr>
              <a:t>   |   January, 2014</a:t>
            </a:r>
            <a:endParaRPr b="0" lang="en-US" sz="3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25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5902254764_7e05f7c19d_b.jpg" descr=""/>
          <p:cNvPicPr/>
          <p:nvPr/>
        </p:nvPicPr>
        <p:blipFill>
          <a:blip r:embed="rId1"/>
          <a:stretch/>
        </p:blipFill>
        <p:spPr>
          <a:xfrm>
            <a:off x="-225360" y="-15840"/>
            <a:ext cx="13455720" cy="97851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987640"/>
            <a:ext cx="10464840" cy="3301920"/>
          </a:xfrm>
          <a:prstGeom prst="rect">
            <a:avLst/>
          </a:prstGeom>
          <a:noFill/>
          <a:ln w="0">
            <a:noFill/>
          </a:ln>
          <a:effectLst>
            <a:outerShdw dist="8280" dir="54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0" lang="en-US" sz="16400" spc="-1" strike="noStrike">
                <a:solidFill>
                  <a:srgbClr val="ffffff"/>
                </a:solidFill>
                <a:latin typeface="Helvetica Neue Medium"/>
                <a:ea typeface="Helvetica Neue Medium"/>
              </a:rPr>
              <a:t>SECRETS</a:t>
            </a:r>
            <a:endParaRPr b="0" lang="en-US" sz="16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1" name=""/>
          <p:cNvSpPr/>
          <p:nvPr/>
        </p:nvSpPr>
        <p:spPr>
          <a:xfrm>
            <a:off x="10883880" y="9447120"/>
            <a:ext cx="2032200" cy="279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Light"/>
              </a:rPr>
              <a:t>Photo by @horrigans (Flickr)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25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32259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Helvetica Neue Medium"/>
                <a:ea typeface="Helvetica Neue Medium"/>
              </a:rPr>
              <a:t>2011: BAY ST. HACKED</a:t>
            </a:r>
            <a:br>
              <a:rPr sz="6800"/>
            </a:br>
            <a:r>
              <a:rPr b="0" lang="en-US" sz="6800" spc="-1" strike="noStrike">
                <a:solidFill>
                  <a:srgbClr val="ffffff"/>
                </a:solidFill>
                <a:latin typeface="Helvetica Neue Medium"/>
                <a:ea typeface="Helvetica Neue Medium"/>
              </a:rPr>
              <a:t>RE: POTASH DEAL</a:t>
            </a:r>
            <a:endParaRPr b="0" lang="en-US" sz="68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25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0080" y="3225600"/>
            <a:ext cx="10463040" cy="33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Helvetica Neue Medium"/>
                <a:ea typeface="Helvetica Neue Medium"/>
              </a:rPr>
              <a:t>STATE ESPIONAGE?</a:t>
            </a:r>
            <a:endParaRPr b="0" lang="en-US" sz="7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4" name=""/>
          <p:cNvSpPr/>
          <p:nvPr/>
        </p:nvSpPr>
        <p:spPr>
          <a:xfrm>
            <a:off x="216000" y="630360"/>
            <a:ext cx="2173320" cy="2068560"/>
          </a:xfrm>
          <a:prstGeom prst="star5">
            <a:avLst/>
          </a:prstGeom>
          <a:solidFill>
            <a:srgbClr val="f5d3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5" name=""/>
          <p:cNvSpPr/>
          <p:nvPr/>
        </p:nvSpPr>
        <p:spPr>
          <a:xfrm rot="18900000">
            <a:off x="2798640" y="45720"/>
            <a:ext cx="1136880" cy="1081080"/>
          </a:xfrm>
          <a:prstGeom prst="star5">
            <a:avLst/>
          </a:prstGeom>
          <a:solidFill>
            <a:srgbClr val="f5d3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6" name=""/>
          <p:cNvSpPr/>
          <p:nvPr/>
        </p:nvSpPr>
        <p:spPr>
          <a:xfrm rot="18900000">
            <a:off x="3809880" y="1053720"/>
            <a:ext cx="1136880" cy="1081080"/>
          </a:xfrm>
          <a:prstGeom prst="star5">
            <a:avLst/>
          </a:prstGeom>
          <a:solidFill>
            <a:srgbClr val="f5d3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7" name=""/>
          <p:cNvSpPr/>
          <p:nvPr/>
        </p:nvSpPr>
        <p:spPr>
          <a:xfrm>
            <a:off x="3597120" y="2475000"/>
            <a:ext cx="1136880" cy="1081080"/>
          </a:xfrm>
          <a:prstGeom prst="star5">
            <a:avLst/>
          </a:prstGeom>
          <a:solidFill>
            <a:srgbClr val="f5d3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8" name=""/>
          <p:cNvSpPr/>
          <p:nvPr/>
        </p:nvSpPr>
        <p:spPr>
          <a:xfrm rot="18900000">
            <a:off x="2031840" y="3128760"/>
            <a:ext cx="1136880" cy="1081080"/>
          </a:xfrm>
          <a:prstGeom prst="star5">
            <a:avLst/>
          </a:prstGeom>
          <a:solidFill>
            <a:srgbClr val="f5d3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93760" y="1638360"/>
            <a:ext cx="88156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000" spc="-1" strike="noStrike">
                <a:solidFill>
                  <a:srgbClr val="c82506"/>
                </a:solidFill>
                <a:latin typeface="Helvetica Neue Medium"/>
                <a:ea typeface="Helvetica Neue Medium"/>
              </a:rPr>
              <a:t>SHHHH…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061720" y="5029200"/>
            <a:ext cx="881532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ttack Methods Are Same As For $$$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25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4357861648_0428ae7423_b-filtered.jpeg" descr=""/>
          <p:cNvPicPr/>
          <p:nvPr/>
        </p:nvPicPr>
        <p:blipFill>
          <a:blip r:embed="rId1"/>
          <a:stretch/>
        </p:blipFill>
        <p:spPr>
          <a:xfrm>
            <a:off x="-1063800" y="-169920"/>
            <a:ext cx="15132240" cy="100933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3225960"/>
            <a:ext cx="10464840" cy="3301920"/>
          </a:xfrm>
          <a:prstGeom prst="rect">
            <a:avLst/>
          </a:prstGeom>
          <a:noFill/>
          <a:ln w="0">
            <a:noFill/>
          </a:ln>
          <a:effectLst>
            <a:outerShdw dist="8280" dir="54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Helvetica Neue Medium"/>
                <a:ea typeface="Helvetica Neue Medium"/>
              </a:rPr>
              <a:t>MONEY</a:t>
            </a:r>
            <a:endParaRPr b="0" lang="en-US" sz="20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3" name=""/>
          <p:cNvSpPr/>
          <p:nvPr/>
        </p:nvSpPr>
        <p:spPr>
          <a:xfrm>
            <a:off x="10944360" y="9447120"/>
            <a:ext cx="1985760" cy="279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Light"/>
              </a:rPr>
              <a:t>Photo by @coffeego (Flickr)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25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9360" y="3225600"/>
            <a:ext cx="11904480" cy="33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Helvetica Neue Medium"/>
                <a:ea typeface="Helvetica Neue Medium"/>
              </a:rPr>
              <a:t>“</a:t>
            </a:r>
            <a:r>
              <a:rPr b="0" lang="en-US" sz="7000" spc="-1" strike="noStrike">
                <a:solidFill>
                  <a:srgbClr val="ffffff"/>
                </a:solidFill>
                <a:latin typeface="Helvetica Neue Medium"/>
                <a:ea typeface="Helvetica Neue Medium"/>
              </a:rPr>
              <a:t>SIX FIGURE LOSS” AT TORONTO FIRM IN 2012</a:t>
            </a:r>
            <a:endParaRPr b="0" lang="en-US" sz="7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25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90560" y="3225600"/>
            <a:ext cx="11422080" cy="33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Helvetica Neue Medium"/>
                <a:ea typeface="Helvetica Neue Medium"/>
              </a:rPr>
              <a:t>2013: US LAW FIRM HACKED FOR $336K</a:t>
            </a:r>
            <a:endParaRPr b="0" lang="en-US" sz="7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